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0BDD-459B-4672-AFF5-7945518E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4022-E310-4104-B412-E493E8A3003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0135-3853-43A0-843D-6962AF8DCF7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22BD-F3EB-4D88-9E2F-D82586C1A9C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663D-94D4-43A9-985D-8A81D7FBA90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AD0D-4DC5-4918-8E97-FE9408392BE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8C6C-2CBA-4780-882C-E86FA72F280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2F5C-71E5-4A21-9038-C59CFEDF5A7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4CCD-4EA0-4472-A48C-CC9956F4FC7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0B19-50A6-455B-9731-A58F8176BB9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625-CE3F-4EBF-B893-E2A7A0281ED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FA2F-0638-4937-ADC7-AD228B72742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2D28-B841-4EF7-9531-D95183059A8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089E-A57B-4520-857F-22D38B7FB95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B623-5E7B-450C-A43B-F64E3B2230E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5A0F-8806-4CBB-AC10-0127DBF61CA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2ECF-A390-418B-B4F1-226670F5023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7E2-E2C6-412C-87BD-DF1113A5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2E4-B7DB-44FF-83E1-72416ABF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003-08B1-4320-986C-BA87742A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DDD-AD99-4573-A41D-C6AA0A20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A83F-F003-4B27-8B17-C2E833CA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8C2E-845E-446E-98AD-3B9AE15D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2D1C-0948-4964-AED0-7805CA60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9F16-A0A7-446F-9130-938BAD74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3D09-19FB-4BA6-9698-066DCEEE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7E66-DADC-4CCE-B284-21C8DDEF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B1D9-EED9-485A-BA06-D2C5115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F29-F355-464E-B563-DD077266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E61D-7405-4BE0-A304-ED5CF48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C3C3-A643-4D8E-82A8-E4556EBE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AFE6-7E15-4B22-9578-058B6381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E1F6-7373-43B4-8B94-107F0B2E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16BA-4F4B-4BC0-8B4F-2E708E78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15A-67FB-4EFE-8575-C21719C1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074-46A8-4176-9C04-289FD7C1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5B9-C2B2-4462-8DE0-CF69C1E9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081-E3E8-4B85-B23C-B93C8039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E1F-3B7E-47DA-9AEA-8F84EB9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EE2-9603-47A5-809C-6A3588E4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50D-0665-4B0E-8DF2-B28451DF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61F-35CA-4565-AF1C-004D90E7BC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CA8D-10C9-4BC8-BEC5-815DACC29F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59520" y="1269360"/>
            <a:ext cx="84337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Garamond"/>
              </a:rPr>
              <a:t>The Brave New World of Common Core Stand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6665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Brandon Zaslo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aramond"/>
              </a:rPr>
              <a:t>Department of Edu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aramond"/>
              </a:rPr>
              <a:t>Occidental Colle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724280" y="5257800"/>
            <a:ext cx="401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Garamond"/>
              </a:rPr>
              <a:t>Los Angeles Area Site of the California World Language Pro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http://www.la-stars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able 4" descr=""/>
          <p:cNvPicPr/>
          <p:nvPr/>
        </p:nvPicPr>
        <p:blipFill>
          <a:blip r:embed="rId1"/>
          <a:stretch/>
        </p:blipFill>
        <p:spPr>
          <a:xfrm>
            <a:off x="208080" y="665280"/>
            <a:ext cx="8716680" cy="1749240"/>
          </a:xfrm>
          <a:prstGeom prst="rect">
            <a:avLst/>
          </a:prstGeom>
          <a:ln w="0">
            <a:noFill/>
          </a:ln>
        </p:spPr>
      </p:pic>
      <p:pic>
        <p:nvPicPr>
          <p:cNvPr id="151" name="Table 5" descr=""/>
          <p:cNvPicPr/>
          <p:nvPr/>
        </p:nvPicPr>
        <p:blipFill>
          <a:blip r:embed="rId2"/>
          <a:stretch/>
        </p:blipFill>
        <p:spPr>
          <a:xfrm>
            <a:off x="208080" y="2571840"/>
            <a:ext cx="8716680" cy="17445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2"/>
          <p:cNvSpPr/>
          <p:nvPr/>
        </p:nvSpPr>
        <p:spPr>
          <a:xfrm>
            <a:off x="0" y="38160"/>
            <a:ext cx="883908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Writing (4 Domains, 10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Table 7" descr=""/>
          <p:cNvPicPr/>
          <p:nvPr/>
        </p:nvPicPr>
        <p:blipFill>
          <a:blip r:embed="rId3"/>
          <a:stretch/>
        </p:blipFill>
        <p:spPr>
          <a:xfrm>
            <a:off x="208080" y="4475160"/>
            <a:ext cx="8716680" cy="17496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"/>
          <p:cNvSpPr/>
          <p:nvPr/>
        </p:nvSpPr>
        <p:spPr>
          <a:xfrm>
            <a:off x="838080" y="6477120"/>
            <a:ext cx="464832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able 4" descr=""/>
          <p:cNvPicPr/>
          <p:nvPr/>
        </p:nvPicPr>
        <p:blipFill>
          <a:blip r:embed="rId1"/>
          <a:stretch/>
        </p:blipFill>
        <p:spPr>
          <a:xfrm>
            <a:off x="208080" y="743040"/>
            <a:ext cx="8716680" cy="19209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"/>
          <p:cNvSpPr/>
          <p:nvPr/>
        </p:nvSpPr>
        <p:spPr>
          <a:xfrm>
            <a:off x="0" y="38160"/>
            <a:ext cx="883908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Writing (4 Domains, 10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762120" y="647712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able 11" descr=""/>
          <p:cNvPicPr/>
          <p:nvPr/>
        </p:nvPicPr>
        <p:blipFill>
          <a:blip r:embed="rId1"/>
          <a:stretch/>
        </p:blipFill>
        <p:spPr>
          <a:xfrm>
            <a:off x="208080" y="2646360"/>
            <a:ext cx="8716680" cy="19256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"/>
          <p:cNvSpPr/>
          <p:nvPr/>
        </p:nvSpPr>
        <p:spPr>
          <a:xfrm>
            <a:off x="0" y="38160"/>
            <a:ext cx="89154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Speaking/Listening (2 Domains, 6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Table 8" descr=""/>
          <p:cNvPicPr/>
          <p:nvPr/>
        </p:nvPicPr>
        <p:blipFill>
          <a:blip r:embed="rId2"/>
          <a:stretch/>
        </p:blipFill>
        <p:spPr>
          <a:xfrm>
            <a:off x="208080" y="743040"/>
            <a:ext cx="8716680" cy="17445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"/>
          <p:cNvSpPr/>
          <p:nvPr/>
        </p:nvSpPr>
        <p:spPr>
          <a:xfrm>
            <a:off x="762120" y="640080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able 4" descr=""/>
          <p:cNvPicPr/>
          <p:nvPr/>
        </p:nvPicPr>
        <p:blipFill>
          <a:blip r:embed="rId1"/>
          <a:stretch/>
        </p:blipFill>
        <p:spPr>
          <a:xfrm>
            <a:off x="208080" y="743040"/>
            <a:ext cx="8716680" cy="1744560"/>
          </a:xfrm>
          <a:prstGeom prst="rect">
            <a:avLst/>
          </a:prstGeom>
          <a:ln w="0">
            <a:noFill/>
          </a:ln>
        </p:spPr>
      </p:pic>
      <p:pic>
        <p:nvPicPr>
          <p:cNvPr id="163" name="Table 5" descr=""/>
          <p:cNvPicPr/>
          <p:nvPr/>
        </p:nvPicPr>
        <p:blipFill>
          <a:blip r:embed="rId2"/>
          <a:stretch/>
        </p:blipFill>
        <p:spPr>
          <a:xfrm>
            <a:off x="208080" y="2646360"/>
            <a:ext cx="8716680" cy="19922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"/>
          <p:cNvSpPr/>
          <p:nvPr/>
        </p:nvSpPr>
        <p:spPr>
          <a:xfrm>
            <a:off x="0" y="38160"/>
            <a:ext cx="89154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Language (3 Domains, 6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762120" y="640080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able 11" descr=""/>
          <p:cNvPicPr/>
          <p:nvPr/>
        </p:nvPicPr>
        <p:blipFill>
          <a:blip r:embed="rId1"/>
          <a:stretch/>
        </p:blipFill>
        <p:spPr>
          <a:xfrm>
            <a:off x="208080" y="682560"/>
            <a:ext cx="8716680" cy="29941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"/>
          <p:cNvSpPr/>
          <p:nvPr/>
        </p:nvSpPr>
        <p:spPr>
          <a:xfrm>
            <a:off x="0" y="38160"/>
            <a:ext cx="89154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Language (3 Domains, 6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762120" y="647712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66"/>
                </a:solidFill>
                <a:latin typeface="Garamond"/>
              </a:rPr>
              <a:t>Common Core Standards:</a:t>
            </a:r>
            <a:br>
              <a:rPr sz="3500"/>
            </a:b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Setting Reasonable Goals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Diagram 8" descr=""/>
          <p:cNvPicPr/>
          <p:nvPr/>
        </p:nvPicPr>
        <p:blipFill>
          <a:blip r:embed="rId1"/>
          <a:stretch/>
        </p:blipFill>
        <p:spPr>
          <a:xfrm>
            <a:off x="-457200" y="2316240"/>
            <a:ext cx="10045800" cy="4608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"/>
          <p:cNvSpPr/>
          <p:nvPr/>
        </p:nvSpPr>
        <p:spPr>
          <a:xfrm>
            <a:off x="533520" y="2362320"/>
            <a:ext cx="3733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Key Ideas and Details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Craft and Structur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Integration of Knowledge and Ideas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Range of Reading and Level of Text Complexity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191120" y="2286000"/>
            <a:ext cx="3733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Text Types and Purposes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Production and Distribution of Writing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Research to Build and Present Knowledg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Range of Writing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533520" y="6012000"/>
            <a:ext cx="3733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Comprehension and Collaboration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Presentation of Knowledge and Ideas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4267080" y="6012000"/>
            <a:ext cx="3733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Conventions of Standard Languag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Knowledge of Languag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Vocabulary Acquisition and Us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Working with Authentic, Informative Texts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1143000" y="2438280"/>
            <a:ext cx="2590920" cy="64260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 Select an authentic, informative tex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886200" y="2438280"/>
            <a:ext cx="2209680" cy="64260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 Determine the purpose of the tex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914400" y="3276720"/>
            <a:ext cx="5181480" cy="256284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 Determine the communicative proficiency necessary to comprehend the text according to its purpos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vice: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words, phrases, formul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mediate: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entences/strings of senten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vanced: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paragraphs/strings of paragraph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uperior: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ohesive multi-paragraph tex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6248520" y="2514600"/>
            <a:ext cx="2666880" cy="119124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 Create questions to ensure  comprehension of the text according to its purpose (evidence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6248520" y="3886200"/>
            <a:ext cx="2361960" cy="64260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 Create activities with the ques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6248520" y="4667400"/>
            <a:ext cx="2743200" cy="119124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 Use the purpose       of the text to formulate culminating written task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A Thinking Continuum: Bloom’s Taxonomy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Diagram 4" descr=""/>
          <p:cNvPicPr/>
          <p:nvPr/>
        </p:nvPicPr>
        <p:blipFill>
          <a:blip r:embed="rId1"/>
          <a:stretch/>
        </p:blipFill>
        <p:spPr>
          <a:xfrm>
            <a:off x="719280" y="2341440"/>
            <a:ext cx="4279680" cy="443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648320" y="2362320"/>
          <a:ext cx="3886200" cy="198108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</a:tblGrid>
              <a:tr h="855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Bloom’s Think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Continu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Assimilation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of Knowled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Acquisi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of Knowled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</a:tr>
            </a:tbl>
          </a:graphicData>
        </a:graphic>
      </p:graphicFrame>
      <p:sp>
        <p:nvSpPr>
          <p:cNvPr id="108" name="Up Arrow 12"/>
          <p:cNvSpPr/>
          <p:nvPr/>
        </p:nvSpPr>
        <p:spPr>
          <a:xfrm>
            <a:off x="7238880" y="3276720"/>
            <a:ext cx="2286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4800600" y="44942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low end of this continuum involves acquiring knowledge and being able to locate or recall that knowledg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 the upper end of the continuum, knowledge is fully integrated in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d in logical and creative way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A Continuum of Action: Daggett’s Taxonomy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Diagram 4" descr=""/>
          <p:cNvPicPr/>
          <p:nvPr/>
        </p:nvPicPr>
        <p:blipFill>
          <a:blip r:embed="rId1"/>
          <a:stretch/>
        </p:blipFill>
        <p:spPr>
          <a:xfrm>
            <a:off x="933480" y="2481120"/>
            <a:ext cx="3619440" cy="422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724280" y="2438280"/>
          <a:ext cx="3886200" cy="1981440"/>
        </p:xfrm>
        <a:graphic>
          <a:graphicData uri="http://schemas.openxmlformats.org/drawingml/2006/table">
            <a:tbl>
              <a:tblPr/>
              <a:tblGrid>
                <a:gridCol w="1524240"/>
                <a:gridCol w="2361960"/>
              </a:tblGrid>
              <a:tr h="855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Daggett’s 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Continu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of Knowled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Acquisi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of Knowled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</a:tr>
            </a:tbl>
          </a:graphicData>
        </a:graphic>
      </p:graphicFrame>
      <p:sp>
        <p:nvSpPr>
          <p:cNvPr id="114" name="Up Arrow 12"/>
          <p:cNvSpPr/>
          <p:nvPr/>
        </p:nvSpPr>
        <p:spPr>
          <a:xfrm>
            <a:off x="7315200" y="3276720"/>
            <a:ext cx="2286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4648320" y="44942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low end of this continuum involves acquiring knowledge for its own sak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upper end of this continuum involves the use of knowledge to solve complex, real-world problems and to create works for use in real-world situa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66"/>
                </a:solidFill>
                <a:latin typeface="Garamond"/>
              </a:rPr>
              <a:t>Rigor-Relevance Framework </a:t>
            </a:r>
            <a:br>
              <a:rPr sz="3500"/>
            </a:b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(International Center for Leadership in Education)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Diagram 8" descr=""/>
          <p:cNvPicPr/>
          <p:nvPr/>
        </p:nvPicPr>
        <p:blipFill>
          <a:blip r:embed="rId1"/>
          <a:stretch/>
        </p:blipFill>
        <p:spPr>
          <a:xfrm>
            <a:off x="1292400" y="1809720"/>
            <a:ext cx="8845200" cy="3968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057400" y="2362320"/>
            <a:ext cx="1523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6 Creat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5 Evaluat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4 Analyz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 Apply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 Understand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1 Recall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3200400" y="4896000"/>
            <a:ext cx="556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1                    2                    3                      4                        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cquire         Apply            Apply              Apply                Appl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knowledge    knowledge   knowledge     knowledge       knowled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n one            in one           across            to real-world    to real-worl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iscipline      discipline     disciplines     predictable      unpredictab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situations        situati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219320" y="2382840"/>
            <a:ext cx="609480" cy="420876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276720" y="6172200"/>
            <a:ext cx="3352680" cy="36828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LEVANCE • APPLI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66"/>
                </a:solidFill>
                <a:latin typeface="Garamond"/>
              </a:rPr>
              <a:t>Rigor-Relevance Framework </a:t>
            </a:r>
            <a:br>
              <a:rPr sz="3500"/>
            </a:b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(International Center for Leadership in Education)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Diagram 8" descr=""/>
          <p:cNvPicPr/>
          <p:nvPr/>
        </p:nvPicPr>
        <p:blipFill>
          <a:blip r:embed="rId1"/>
          <a:stretch/>
        </p:blipFill>
        <p:spPr>
          <a:xfrm>
            <a:off x="-457200" y="2243160"/>
            <a:ext cx="10045800" cy="46022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124080" y="2525760"/>
            <a:ext cx="2895840" cy="36828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FOUR QUADRA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66"/>
                </a:solidFill>
                <a:latin typeface="Garamond"/>
              </a:rPr>
              <a:t>Rigor-Relevance Framework </a:t>
            </a:r>
            <a:br>
              <a:rPr sz="3500"/>
            </a:b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(International Center for Leadership in Education)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Diagram 8" descr=""/>
          <p:cNvPicPr/>
          <p:nvPr/>
        </p:nvPicPr>
        <p:blipFill>
          <a:blip r:embed="rId1"/>
          <a:stretch/>
        </p:blipFill>
        <p:spPr>
          <a:xfrm>
            <a:off x="-457200" y="2316240"/>
            <a:ext cx="10045800" cy="4608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2438280" y="2525760"/>
            <a:ext cx="4267440" cy="36828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CHNICAL READING AND WRI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Stages of Student Proficiency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Table 1" descr=""/>
          <p:cNvPicPr/>
          <p:nvPr/>
        </p:nvPicPr>
        <p:blipFill>
          <a:blip r:embed="rId1"/>
          <a:stretch/>
        </p:blipFill>
        <p:spPr>
          <a:xfrm>
            <a:off x="2955960" y="2955960"/>
            <a:ext cx="2012760" cy="2732040"/>
          </a:xfrm>
          <a:prstGeom prst="rect">
            <a:avLst/>
          </a:prstGeom>
          <a:ln w="0">
            <a:noFill/>
          </a:ln>
        </p:spPr>
      </p:pic>
      <p:pic>
        <p:nvPicPr>
          <p:cNvPr id="139" name="Table 6" descr=""/>
          <p:cNvPicPr/>
          <p:nvPr/>
        </p:nvPicPr>
        <p:blipFill>
          <a:blip r:embed="rId2"/>
          <a:stretch/>
        </p:blipFill>
        <p:spPr>
          <a:xfrm>
            <a:off x="4937040" y="2955960"/>
            <a:ext cx="2013120" cy="2732040"/>
          </a:xfrm>
          <a:prstGeom prst="rect">
            <a:avLst/>
          </a:prstGeom>
          <a:ln w="0">
            <a:noFill/>
          </a:ln>
        </p:spPr>
      </p:pic>
      <p:pic>
        <p:nvPicPr>
          <p:cNvPr id="140" name="Table 7" descr=""/>
          <p:cNvPicPr/>
          <p:nvPr/>
        </p:nvPicPr>
        <p:blipFill>
          <a:blip r:embed="rId3"/>
          <a:stretch/>
        </p:blipFill>
        <p:spPr>
          <a:xfrm>
            <a:off x="6918480" y="2955960"/>
            <a:ext cx="2012760" cy="2732040"/>
          </a:xfrm>
          <a:prstGeom prst="rect">
            <a:avLst/>
          </a:prstGeom>
          <a:ln w="0">
            <a:noFill/>
          </a:ln>
        </p:spPr>
      </p:pic>
      <p:pic>
        <p:nvPicPr>
          <p:cNvPr id="141" name="Table 8" descr=""/>
          <p:cNvPicPr/>
          <p:nvPr/>
        </p:nvPicPr>
        <p:blipFill>
          <a:blip r:embed="rId4"/>
          <a:stretch/>
        </p:blipFill>
        <p:spPr>
          <a:xfrm>
            <a:off x="974880" y="2955960"/>
            <a:ext cx="2012760" cy="27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able 11" descr=""/>
          <p:cNvPicPr/>
          <p:nvPr/>
        </p:nvPicPr>
        <p:blipFill>
          <a:blip r:embed="rId1"/>
          <a:stretch/>
        </p:blipFill>
        <p:spPr>
          <a:xfrm>
            <a:off x="208080" y="665280"/>
            <a:ext cx="8716680" cy="1925640"/>
          </a:xfrm>
          <a:prstGeom prst="rect">
            <a:avLst/>
          </a:prstGeom>
          <a:ln w="0">
            <a:noFill/>
          </a:ln>
        </p:spPr>
      </p:pic>
      <p:pic>
        <p:nvPicPr>
          <p:cNvPr id="143" name="Table 4" descr=""/>
          <p:cNvPicPr/>
          <p:nvPr/>
        </p:nvPicPr>
        <p:blipFill>
          <a:blip r:embed="rId2"/>
          <a:stretch/>
        </p:blipFill>
        <p:spPr>
          <a:xfrm>
            <a:off x="208080" y="2724120"/>
            <a:ext cx="8716680" cy="1920960"/>
          </a:xfrm>
          <a:prstGeom prst="rect">
            <a:avLst/>
          </a:prstGeom>
          <a:ln w="0">
            <a:noFill/>
          </a:ln>
        </p:spPr>
      </p:pic>
      <p:pic>
        <p:nvPicPr>
          <p:cNvPr id="144" name="Table 5" descr=""/>
          <p:cNvPicPr/>
          <p:nvPr/>
        </p:nvPicPr>
        <p:blipFill>
          <a:blip r:embed="rId3"/>
          <a:stretch/>
        </p:blipFill>
        <p:spPr>
          <a:xfrm>
            <a:off x="208080" y="4780080"/>
            <a:ext cx="8716680" cy="17492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2"/>
          <p:cNvSpPr/>
          <p:nvPr/>
        </p:nvSpPr>
        <p:spPr>
          <a:xfrm>
            <a:off x="0" y="38160"/>
            <a:ext cx="89154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Reading (4 Domains, 10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>
            <a:off x="762120" y="647712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able 11" descr=""/>
          <p:cNvPicPr/>
          <p:nvPr/>
        </p:nvPicPr>
        <p:blipFill>
          <a:blip r:embed="rId1"/>
          <a:stretch/>
        </p:blipFill>
        <p:spPr>
          <a:xfrm>
            <a:off x="208080" y="743040"/>
            <a:ext cx="8716680" cy="17445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"/>
          <p:cNvSpPr/>
          <p:nvPr/>
        </p:nvSpPr>
        <p:spPr>
          <a:xfrm>
            <a:off x="0" y="38160"/>
            <a:ext cx="883908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Reading (4 Domains, 10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762120" y="647712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25:50Z</dcterms:created>
  <dc:creator>Mary Rose Peralta</dc:creator>
  <dc:description/>
  <dc:language>en-US</dc:language>
  <cp:lastModifiedBy>Brandon Zaslow</cp:lastModifiedBy>
  <cp:lastPrinted>2011-07-10T19:08:19Z</cp:lastPrinted>
  <dcterms:modified xsi:type="dcterms:W3CDTF">2013-07-18T17:26:35Z</dcterms:modified>
  <cp:revision>248</cp:revision>
  <dc:subject/>
  <dc:title>Developing and Preserving a Less Commonly Taught Language</dc:title>
</cp:coreProperties>
</file>